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8A3-93A5-44A4-964B-411811B9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A62-9C14-4AB9-87F1-9EAF0BB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01E-8771-4FB5-83FE-14B9B4E9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F77-8A7A-411C-9821-D50AAB93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56E-2C36-401C-B673-FE8A39D5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89E-7F87-44F3-A042-5515343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857-F6D9-47EF-871E-E792AC40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45C-1364-49AB-81CE-D664B42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741-53CB-47E0-A0F6-2082400D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224-F3E6-4C8C-8064-9CE5B27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852-9B2C-49EA-B1BB-F7F9DE2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DD4-0285-41A2-B740-9AFF3997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2190-4B8A-49EF-B499-031D12EF2A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centre.ac.uk/types/facts-and-formulae-leaflets/onscreenleaflets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store.ac.uk/index.php?pid=42" TargetMode="External"/><Relationship Id="rId2" Type="http://schemas.openxmlformats.org/officeDocument/2006/relationships/hyperlink" Target="http://www.mathcentre.ac.uk/resources/exercisebooks/mathcentre/final0502-calc-ref-ukmlsc.pd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hcentre.ac.uk/" TargetMode="External"/><Relationship Id="rId2" Type="http://schemas.openxmlformats.org/officeDocument/2006/relationships/hyperlink" Target="http://www.mathcentre.ac.uk/" TargetMode="External"/><Relationship Id="rId3" Type="http://schemas.openxmlformats.org/officeDocument/2006/relationships/hyperlink" Target="http://www.mathtutor.ac.uk/" TargetMode="External"/><Relationship Id="rId4" Type="http://schemas.openxmlformats.org/officeDocument/2006/relationships/hyperlink" Target="http://www.mathtutor.ac.uk/" TargetMode="External"/><Relationship Id="rId5" Type="http://schemas.openxmlformats.org/officeDocument/2006/relationships/hyperlink" Target="http://www.statstutor.ac.uk/" TargetMode="External"/><Relationship Id="rId6" Type="http://schemas.openxmlformats.org/officeDocument/2006/relationships/hyperlink" Target="http://www.statstutor.ac.uk/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cw.mit.edu/courses/mathematics/" TargetMode="External"/><Relationship Id="rId2" Type="http://schemas.openxmlformats.org/officeDocument/2006/relationships/hyperlink" Target="http://ocw.mit.edu/courses/mathematics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ts.gla.ac.uk/steps/glossary/alphabet.html" TargetMode="External"/><Relationship Id="rId2" Type="http://schemas.openxmlformats.org/officeDocument/2006/relationships/hyperlink" Target="https://oldwww.math.ucdavis.edu/glossary.html" TargetMode="External"/><Relationship Id="rId3" Type="http://schemas.openxmlformats.org/officeDocument/2006/relationships/hyperlink" Target="http://www.math.ucdavis.edu/profiles/glossary.html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www.stats.gla.ac.uk/steps/glossary/alphabet.html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hyperlink" Target="http://www.geogebra.org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for Mathematics Support Tu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2292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22424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26708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672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sigma logo print.jpeg"/>
          <p:cNvPicPr/>
          <p:nvPr/>
        </p:nvPicPr>
        <p:blipFill>
          <a:blip r:embed="rId1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thing interesting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istory of Mathematics Arch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ttp://www-history.mcs.st-and.ac.uk/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07680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sigma logo print.jpeg"/>
          <p:cNvPicPr/>
          <p:nvPr/>
        </p:nvPicPr>
        <p:blipFill>
          <a:blip r:embed="rId2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mployer recruitment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K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www.kent.ac.uk/careers/tests/mathstest.h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ining and Development Agency (TD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ducation.gov.uk/sta/professional/b00211213/nume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igma logo print.jpeg"/>
          <p:cNvPicPr/>
          <p:nvPr/>
        </p:nvPicPr>
        <p:blipFill>
          <a:blip r:embed="rId1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mathsupport.mas.ncl.ac.uk/wiki/Main_P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sigma logo print.jpeg"/>
          <p:cNvPicPr/>
          <p:nvPr/>
        </p:nvPicPr>
        <p:blipFill>
          <a:blip r:embed="rId1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060720" cy="7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2668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287964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79280" y="3141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sigma-network.ac.uk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sigma logo print.jpeg"/>
          <p:cNvPicPr/>
          <p:nvPr/>
        </p:nvPicPr>
        <p:blipFill>
          <a:blip r:embed="rId2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esources &amp; Pub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acts, Formulae and Information Leafle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re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’ Facts &amp; Formu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ability &amp;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 for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 for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proba"/>
          <p:cNvPicPr/>
          <p:nvPr/>
        </p:nvPicPr>
        <p:blipFill>
          <a:blip r:embed="rId2"/>
          <a:stretch/>
        </p:blipFill>
        <p:spPr>
          <a:xfrm rot="21135000">
            <a:off x="4858920" y="1700280"/>
            <a:ext cx="1763640" cy="359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echanics"/>
          <p:cNvPicPr/>
          <p:nvPr/>
        </p:nvPicPr>
        <p:blipFill>
          <a:blip r:embed="rId3"/>
          <a:stretch/>
        </p:blipFill>
        <p:spPr>
          <a:xfrm rot="21135000">
            <a:off x="6587640" y="1484280"/>
            <a:ext cx="2173320" cy="3595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5286240" y="542916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ww.mathstore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esources &amp; Pub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fresher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700360" y="2060640"/>
            <a:ext cx="6192720" cy="3849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14200" y="55008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ww.mathstore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ematics Support (onl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th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ent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ww.mathcentre.ac.u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th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ww.mathtutor.ac.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tat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ww.statstutor.ac.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mathcentre"/>
          <p:cNvPicPr/>
          <p:nvPr/>
        </p:nvPicPr>
        <p:blipFill>
          <a:blip r:embed="rId7"/>
          <a:stretch/>
        </p:blipFill>
        <p:spPr>
          <a:xfrm>
            <a:off x="6588000" y="2349360"/>
            <a:ext cx="2048040" cy="360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8"/>
          <a:stretch/>
        </p:blipFill>
        <p:spPr>
          <a:xfrm>
            <a:off x="468360" y="3716280"/>
            <a:ext cx="417492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sigma logo print.jpeg"/>
          <p:cNvPicPr/>
          <p:nvPr/>
        </p:nvPicPr>
        <p:blipFill>
          <a:blip r:embed="rId9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Other) context based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iscovermaths.rsc.org/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010560" cy="10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556000" y="2133720"/>
            <a:ext cx="3944880" cy="79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sigma logo print.jpeg"/>
          <p:cNvPicPr/>
          <p:nvPr/>
        </p:nvPicPr>
        <p:blipFill>
          <a:blip r:embed="rId3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educationa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cw.mit.edu/courses/mathematics/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781360"/>
            <a:ext cx="6540480" cy="100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line glossari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tats.gla.ac.uk/steps/glossary/alphabet.htm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s://oldwww.math.ucdavis.edu/glossary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4508640"/>
            <a:ext cx="2543040" cy="73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08360" y="2133720"/>
            <a:ext cx="1368360" cy="9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sigma logo print.jpeg"/>
          <p:cNvPicPr/>
          <p:nvPr/>
        </p:nvPicPr>
        <p:blipFill>
          <a:blip r:embed="rId7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activit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eogebra.org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773360"/>
            <a:ext cx="5172120" cy="100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thing useful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4280" y="2714760"/>
            <a:ext cx="6588360" cy="92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sigma logo print.jpeg"/>
          <p:cNvPicPr/>
          <p:nvPr/>
        </p:nvPicPr>
        <p:blipFill>
          <a:blip r:embed="rId2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22:30Z</dcterms:created>
  <dc:creator>Michael Grove</dc:creator>
  <dc:description/>
  <dc:language>en-US</dc:language>
  <cp:lastModifiedBy>Michael Grove</cp:lastModifiedBy>
  <cp:lastPrinted>2013-10-25T05:43:28Z</cp:lastPrinted>
  <dcterms:modified xsi:type="dcterms:W3CDTF">2014-10-05T10:35:37Z</dcterms:modified>
  <cp:revision>111</cp:revision>
  <dc:subject/>
  <dc:title>Presenting &amp; Communicating Mathematics</dc:title>
</cp:coreProperties>
</file>